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96B-A312-41FB-AE5A-830FED28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464-E240-4CDC-BDA2-2BAD3F1E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6BA-AA27-42B7-9D81-AEF83CE4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EFF-38B4-4B73-80EE-78F0AC79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195C-9D69-49DB-937F-1274AB42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DE95-4763-4A9D-9B0E-C8294315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AF2-DE54-4C89-8D49-C5CE5C9A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F24D-7DE1-45C8-8953-39E1458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68DA-6427-47C9-81DE-5D709E04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6F47-8A26-4618-85CA-EDB63481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3F31-9904-45FA-9B57-09FFDDD6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B2A-89EB-4F4F-B373-1B4D2A1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D502-98BD-48C4-8432-D0B4ACE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B641-66B9-4731-A774-0CF91A4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5688-7B12-4BE5-9E8E-04CD19EF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ECFB-38D1-4C2E-985B-44F118C0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4A24-607F-4B97-B350-F66E804A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7AC-2E59-43B4-B1DE-389B13C5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B21-990E-402F-8B8F-BDD3EFC2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F64-1FF5-4A4D-AD5A-32DA5335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154-12B2-4205-9579-C0E8894C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53B-6895-440D-99A2-5BC4BBAB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FD1-E01E-48C0-9A5D-61A5421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AFB-C953-4F77-A08E-B82E0501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1368-DE3D-4520-AFA0-3E7A6012015E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94DE-F26C-4E1E-936E-710D62F8685F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66"/>
                </a:solidFill>
                <a:uFillTx/>
                <a:latin typeface="Handwriting - Dakota"/>
              </a:rPr>
              <a:t>Coralin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190760"/>
            <a:ext cx="556272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By: Neil Gaiman</a:t>
            </a: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	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Presentation by: E.O.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Handwriting - Dakota"/>
              </a:rPr>
              <a:t>Reasons why you should read this book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Page turner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Adventure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A girl who can outsmart others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1280880" cy="156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86200" y="19810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Handwriting - Dakota"/>
              </a:rPr>
              <a:t>Read aloud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54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971800" y="1905120"/>
            <a:ext cx="2644920" cy="39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335268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0" y="2286000"/>
            <a:ext cx="2819520" cy="2271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30:51Z</dcterms:created>
  <dc:creator>cysd</dc:creator>
  <dc:description/>
  <dc:language>en-US</dc:language>
  <cp:lastModifiedBy>Tiffany Brewer</cp:lastModifiedBy>
  <dcterms:modified xsi:type="dcterms:W3CDTF">2008-11-25T23:14:35Z</dcterms:modified>
  <cp:revision>4</cp:revision>
  <dc:subject/>
  <dc:title>Coraline</dc:title>
</cp:coreProperties>
</file>